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CD7-6102-4D56-BB09-832FA941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FB1-9392-45B6-A0C5-CEFD03B1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E4C-1CE3-47D2-8E0E-BB49E374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C2F-0CEB-4A2E-9E63-07900FBC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55C-AAEA-467E-9C3B-678B8FE8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7ED-9294-4F29-9BAB-A8FC7011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796-AB49-4585-B11B-487D70D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D0F-DF62-43DB-8F98-A9D7E8CF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ADF-936E-4F85-9739-BB03256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C7C-1CB2-4A08-9CB2-93E7C0F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D28-D5CF-4FD5-932C-649892C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E8C-8572-4D39-A034-F34AC85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FE50-82AE-465F-B488-32824D216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7621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6"/>
          <p:cNvSpPr/>
          <p:nvPr/>
        </p:nvSpPr>
        <p:spPr>
          <a:xfrm>
            <a:off x="228600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8"/>
          <p:cNvSpPr/>
          <p:nvPr/>
        </p:nvSpPr>
        <p:spPr>
          <a:xfrm flipV="1">
            <a:off x="2285280" y="17521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10"/>
          <p:cNvSpPr/>
          <p:nvPr/>
        </p:nvSpPr>
        <p:spPr>
          <a:xfrm>
            <a:off x="289548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12"/>
          <p:cNvSpPr/>
          <p:nvPr/>
        </p:nvSpPr>
        <p:spPr>
          <a:xfrm>
            <a:off x="4038480" y="17524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14"/>
          <p:cNvSpPr/>
          <p:nvPr/>
        </p:nvSpPr>
        <p:spPr>
          <a:xfrm flipH="1">
            <a:off x="4266720" y="2362320"/>
            <a:ext cx="3812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16"/>
          <p:cNvSpPr/>
          <p:nvPr/>
        </p:nvSpPr>
        <p:spPr>
          <a:xfrm>
            <a:off x="2285280" y="36576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18"/>
          <p:cNvSpPr/>
          <p:nvPr/>
        </p:nvSpPr>
        <p:spPr>
          <a:xfrm>
            <a:off x="312408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22860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5812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228600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29718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4038480" y="213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8098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274320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140 and 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140 and 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2819520" y="25146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iggest Los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The Biggest Loser.mp3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995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ctagon 5"/>
          <p:cNvSpPr/>
          <p:nvPr/>
        </p:nvSpPr>
        <p:spPr>
          <a:xfrm>
            <a:off x="2819520" y="1828800"/>
            <a:ext cx="3657600" cy="30481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65760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5562720" y="3657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5562720" y="2590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4876920" y="1828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819520" y="2590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289548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49528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35812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decag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800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67652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5 and 4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ctagon 5"/>
          <p:cNvSpPr/>
          <p:nvPr/>
        </p:nvSpPr>
        <p:spPr>
          <a:xfrm>
            <a:off x="3200400" y="2209680"/>
            <a:ext cx="2362320" cy="22100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rey’s Anat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Greys Anatomy - Full Version.mp3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8715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arallelogram 5"/>
          <p:cNvSpPr/>
          <p:nvPr/>
        </p:nvSpPr>
        <p:spPr>
          <a:xfrm>
            <a:off x="2057400" y="1752480"/>
            <a:ext cx="5105520" cy="2971800"/>
          </a:xfrm>
          <a:prstGeom prst="parallelogram">
            <a:avLst>
              <a:gd name="adj" fmla="val 24998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281952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x+15)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-20)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21337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15)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563868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20 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209680" y="25146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8240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m of the interior and ex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7077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one interio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me that TV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62 and 1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ce Road Truck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Ice Road Trucker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6067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7.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Heptagon 5"/>
          <p:cNvSpPr/>
          <p:nvPr/>
        </p:nvSpPr>
        <p:spPr>
          <a:xfrm>
            <a:off x="2666880" y="1295280"/>
            <a:ext cx="4114800" cy="3657600"/>
          </a:xfrm>
          <a:custGeom>
            <a:avLst/>
            <a:gdLst>
              <a:gd name="textAreaLeft" fmla="*/ 407520 w 4114800"/>
              <a:gd name="textAreaRight" fmla="*/ 3707280 w 4114800"/>
              <a:gd name="textAreaTop" fmla="*/ 724320 h 3657600"/>
              <a:gd name="textAreaBottom" fmla="*/ 2933280 h 3657600"/>
            </a:gdLst>
            <a:ahLst/>
            <a:rect l="textAreaLeft" t="textAreaTop" r="textAreaRight" b="textAreaBottom"/>
            <a:pathLst>
              <a:path w="4114800" h="3657600">
                <a:moveTo>
                  <a:pt x="-11" y="2352227"/>
                </a:moveTo>
                <a:lnTo>
                  <a:pt x="407491" y="724436"/>
                </a:lnTo>
                <a:lnTo>
                  <a:pt x="2057400" y="0"/>
                </a:lnTo>
                <a:lnTo>
                  <a:pt x="3707309" y="724436"/>
                </a:lnTo>
                <a:lnTo>
                  <a:pt x="4114811" y="2352227"/>
                </a:lnTo>
                <a:lnTo>
                  <a:pt x="2973024" y="3657619"/>
                </a:lnTo>
                <a:lnTo>
                  <a:pt x="1141776" y="365761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2004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4100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3434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281952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601992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73392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5029200" y="4495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pt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00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cag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44 and 3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boy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551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7.33333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6"/>
          <p:cNvSpPr/>
          <p:nvPr/>
        </p:nvSpPr>
        <p:spPr>
          <a:xfrm flipV="1">
            <a:off x="2361600" y="175212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8"/>
          <p:cNvSpPr/>
          <p:nvPr/>
        </p:nvSpPr>
        <p:spPr>
          <a:xfrm flipV="1">
            <a:off x="2971800" y="1676160"/>
            <a:ext cx="167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4648320" y="1676520"/>
            <a:ext cx="12189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2"/>
          <p:cNvSpPr/>
          <p:nvPr/>
        </p:nvSpPr>
        <p:spPr>
          <a:xfrm flipH="1">
            <a:off x="3047760" y="335196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14"/>
          <p:cNvSpPr/>
          <p:nvPr/>
        </p:nvSpPr>
        <p:spPr>
          <a:xfrm flipH="1" flipV="1">
            <a:off x="2361960" y="297144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9718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24382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29718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396252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472428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340 and 3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8 and 7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 song heard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Jeopar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eopardy - Think Music - 2009.mp3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922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1-01-05T16:52:10Z</dcterms:modified>
  <cp:revision>8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